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9.jpeg" ContentType="image/jpeg"/>
  <Override PartName="/ppt/media/image11.png" ContentType="image/pn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5143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40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7920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319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722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40644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95280" indent="-40644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739880" indent="-40644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84480" indent="-40644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84480" indent="-406440">
              <a:spcBef>
                <a:spcPts val="9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84480" indent="-406440">
              <a:spcBef>
                <a:spcPts val="9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7320" y="1383840"/>
            <a:ext cx="514368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87320" y="4876560"/>
            <a:ext cx="514368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3000"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5143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6960" y="1371240"/>
            <a:ext cx="113029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86960" y="4863600"/>
            <a:ext cx="1130292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3000"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73640" y="2768400"/>
            <a:ext cx="5143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40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7920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319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722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0028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445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891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tooble.tv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"/>
          <p:cNvGrpSpPr/>
          <p:nvPr/>
        </p:nvGrpSpPr>
        <p:grpSpPr>
          <a:xfrm>
            <a:off x="1562040" y="279360"/>
            <a:ext cx="9880560" cy="5168880"/>
            <a:chOff x="1562040" y="279360"/>
            <a:chExt cx="9880560" cy="5168880"/>
          </a:xfrm>
        </p:grpSpPr>
        <p:pic>
          <p:nvPicPr>
            <p:cNvPr id="453" name="" descr=""/>
            <p:cNvPicPr/>
            <p:nvPr/>
          </p:nvPicPr>
          <p:blipFill>
            <a:blip r:embed="rId2"/>
            <a:srcRect l="0" t="24794" r="0" b="24794"/>
            <a:stretch/>
          </p:blipFill>
          <p:spPr>
            <a:xfrm>
              <a:off x="1803240" y="482400"/>
              <a:ext cx="9396360" cy="473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3"/>
            <a:stretch/>
          </p:blipFill>
          <p:spPr>
            <a:xfrm>
              <a:off x="1562040" y="279360"/>
              <a:ext cx="9880560" cy="516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87320" y="525744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Helvetica Neue Light"/>
              </a:rPr>
              <a:t>Using iTunes in the Classroom</a:t>
            </a:r>
            <a:endParaRPr b="0" lang="en-US" sz="67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87320" y="634968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e media management center for the 21st century classroom!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57" name=""/>
          <p:cNvSpPr/>
          <p:nvPr/>
        </p:nvSpPr>
        <p:spPr>
          <a:xfrm>
            <a:off x="2259360" y="7988400"/>
            <a:ext cx="848628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Kevin Lane, D.M.A</a:t>
            </a:r>
            <a:endParaRPr b="0" lang="en-US" sz="3000" spc="-1" strike="noStrike">
              <a:solidFill>
                <a:srgbClr val="ffffff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Music Teacher, Woodstation Elementary School</a:t>
            </a:r>
            <a:endParaRPr b="0" lang="en-US" sz="3000" spc="-1" strike="noStrike">
              <a:solidFill>
                <a:srgbClr val="ffffff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Catoosa County, Ga.</a:t>
            </a:r>
            <a:endParaRPr b="0" lang="en-US" sz="30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Importing YouTube Videos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87320" y="378432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ooble - free download Mac or PC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Helvetica Neue Light"/>
                <a:hlinkClick r:id="rId3"/>
              </a:rPr>
              <a:t>http://tooble.tv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/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aste YouTube URL into Toobl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video is storted in iTunes movie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ull quality or appropriate for iPhone, iPod touch, iPod Video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7"/>
          <a:stretch/>
        </p:blipFill>
        <p:spPr>
          <a:xfrm>
            <a:off x="4483080" y="2095560"/>
            <a:ext cx="4025880" cy="2019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ITunes Resources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Helvetica Neue Light"/>
              </a:rPr>
              <a:t>http://www.apple.com/itune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Helvetica Neue Light"/>
              </a:rPr>
              <a:t>iPod &amp; iTunes for Dummies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 by Tony Bove, Wiley Publishing, 2010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Helvetica Neue Light"/>
              </a:rPr>
              <a:t>The iPod Book:  Doing Cool Stuff with the iPod and the iTunes Store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 (5th Edition) by Scott Kelby, Peachpit Press, 2008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Helvetica Neue Light"/>
              </a:rPr>
              <a:t>http://www.macworld.com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Questions?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4876920" y="3251160"/>
            <a:ext cx="3251160" cy="3251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eleased January 9, 2001 by Apple Computer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upported original iPod October 23 2001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4.0  - iTunes Store 2003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digital music manager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video, pdf, audiobooks, digital book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7"/>
          <a:stretch/>
        </p:blipFill>
        <p:spPr>
          <a:xfrm>
            <a:off x="3987720" y="1015920"/>
            <a:ext cx="5029200" cy="1613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Helvetica Neue Light"/>
              </a:rPr>
              <a:t>Using iTunes in the Classroom</a:t>
            </a:r>
            <a:endParaRPr b="0" lang="en-US" sz="55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87320" y="2209320"/>
            <a:ext cx="11430000" cy="740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mport cd’s and audio files into library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urchase music, movies, TV shows, apps, and books from the iTunes Stor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ubscribe to a podcas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access iTunes U. conten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mporting ebooks and pdf’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onverting and exporting audio file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reating playlist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yncing iPod, iPad, or iPhon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mport a YouTube video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1"/>
          <a:stretch/>
        </p:blipFill>
        <p:spPr>
          <a:xfrm>
            <a:off x="9398160" y="4533840"/>
            <a:ext cx="2527200" cy="2540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Importing Music and Other Content into iTunes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627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37320" indent="-33732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nsert CD - iTunes opens!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37320" indent="-33732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disc appears in sidebar menu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37320" indent="-33732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GraceNote identifies tracks (if connected to internet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37320" indent="-33732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mport entire CD or drag selected track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37320" indent="-33732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Tunes looks up artwork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37320" indent="-33732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drag tracks, ebooks, or pdf’s to library or to playlis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37320" indent="-33732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eject disc when finished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3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37320" indent="-33732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default file format AAC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0"/>
          <a:stretch/>
        </p:blipFill>
        <p:spPr>
          <a:xfrm>
            <a:off x="7746840" y="2882880"/>
            <a:ext cx="290844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 Light"/>
              </a:rPr>
              <a:t>Purchasing Content from the iTunes Store</a:t>
            </a:r>
            <a:endParaRPr b="0" lang="en-US" sz="4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must have iTunes accoun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redit cart optiona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gift card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odcasts &amp; ed. content fre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all music is DRM free (iTunes Plus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7"/>
          <a:stretch/>
        </p:blipFill>
        <p:spPr>
          <a:xfrm>
            <a:off x="7873920" y="3263760"/>
            <a:ext cx="3975120" cy="3675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Subscribing to a Podcas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arch for podcast in iTunes Stor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review an episod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download an episod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better yet - SUBSCRIBE!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Tunes looks for a new show and downloads it automatically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7"/>
          <a:stretch/>
        </p:blipFill>
        <p:spPr>
          <a:xfrm>
            <a:off x="8585280" y="4508640"/>
            <a:ext cx="2235240" cy="2235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onverting and Exporting Audio Files in iTunes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Tunes/Preferences/Import Settings - choose mp3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lect track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Advanced/Select mp3 version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drag track to destination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drag track(s) to destination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hange Import Settings back to AAC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8"/>
          <a:stretch/>
        </p:blipFill>
        <p:spPr>
          <a:xfrm>
            <a:off x="8234280" y="4495680"/>
            <a:ext cx="3868920" cy="2489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Helvetica Neue Light"/>
              </a:rPr>
              <a:t>Using Playlists to Organize Music</a:t>
            </a:r>
            <a:endParaRPr b="0" lang="en-US" sz="6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00280" y="2018880"/>
            <a:ext cx="9486720" cy="712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394200" indent="-39420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laylist - a “cassette mix” or self-made “album”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94200" indent="-39420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laylists organize music according to use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94200" indent="-39420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laylist for each grad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94200" indent="-39420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laylist for after school group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94200" indent="-39420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laylist for particular activity:  “folk dance,” “steady beat”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94200" indent="-39420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reate playlist File/New Playlis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94200" indent="-39420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lect tracks and drag to playlis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9"/>
          <a:stretch/>
        </p:blipFill>
        <p:spPr>
          <a:xfrm>
            <a:off x="10325160" y="3492360"/>
            <a:ext cx="2222280" cy="4559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87320" y="-190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Syncing an iPod or iPhone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87320" y="2273400"/>
            <a:ext cx="1143000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Pod syncs to only one iTunes library at a time!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Tunes will ask if you want to sync to new library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ync everything automatically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ync manually only the content you wan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ync selected playlists, artists, albums, genres, etc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ync (or not) podcasts, TV shows, movies, ebooks, apps, and photo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Best Practice:  always eject for unplugging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